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D2D95-C8EA-4DE0-B2AB-56F05B38CE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098D3-6D46-43B3-8730-669F1F1A27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D2227-7F42-4F8E-A3C0-F42E5B74F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78321-D99C-40A5-BE95-C962DF7148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3AA33-AF04-4ACD-882D-BFD21CB0D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D8930-B5C0-454C-A308-A730589498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091A-A0C0-4994-B575-89556C932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9D3CC-0B34-4755-96A5-359B42F74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BC836-3A37-4A4D-9AE1-48E940F48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8B4C3-6A2C-46E3-B967-6B6FE70AF2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0175A-CFC8-4F93-AE26-A3351D4C0E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FB4E-51B4-4AEF-B043-FD8E9833B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9C873-89E2-4AE1-8842-D53CCCB62F01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fritzf@us.ibm.com" TargetMode="External"/><Relationship Id="rId2" Type="http://schemas.openxmlformats.org/officeDocument/2006/relationships/hyperlink" Target="mailto:emd19@us.ibm.com" TargetMode="External"/><Relationship Id="rId3" Type="http://schemas.openxmlformats.org/officeDocument/2006/relationships/hyperlink" Target="http://www.ibm.com/websphere/datainterchange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DI XML Consider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itz Fahren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03160" y="1541520"/>
            <a:ext cx="6337440" cy="39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?xml encoding="ISO-8859-1"?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nel (person)+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person (name,email*,url*,link?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person id ID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family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given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name (#PCDATA|family|given)*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email (#PCDATA)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url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url href CDATA #REQUIR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ELEMENT link EMPT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!ATTLIST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 IDREF #IMPL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rdinates IDREFS #IMPLIE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2438280"/>
            <a:ext cx="12193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666880" y="2743200"/>
            <a:ext cx="2133720" cy="2286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666880" y="3200400"/>
            <a:ext cx="10670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3657600"/>
            <a:ext cx="2133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90720" y="4419720"/>
            <a:ext cx="99036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87560" y="2049480"/>
            <a:ext cx="1272960" cy="2649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228840" y="2314440"/>
            <a:ext cx="2616480" cy="277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76400" y="4016520"/>
            <a:ext cx="111132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2920" y="2813040"/>
            <a:ext cx="1413000" cy="2318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78000" y="3309840"/>
            <a:ext cx="2872080" cy="255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describe the structure of the XML document, but in much more d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 constraints on elements and attributes (i.e., date, numeric, list of values, mask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/max repeat cou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 and constructs that are not supported in 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” content sp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ility to define your own types, including base and derived ty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chema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UTF-8" ?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chema xmlns:x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www.w3.org/2001/XMLSchem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ne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name 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strin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bound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element ref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n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in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maxOccurs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equenc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attribute nam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typ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xs: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use="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 /&g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xs:complexTyp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elemen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xs:schema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2120" y="2209680"/>
            <a:ext cx="83808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5280" y="495288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000" y="4191120"/>
            <a:ext cx="205740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191120"/>
            <a:ext cx="9907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438280" y="4572000"/>
            <a:ext cx="76212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0080" y="4191120"/>
            <a:ext cx="1219320" cy="3045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3400" y="2233440"/>
            <a:ext cx="925560" cy="1620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19040" y="3784680"/>
            <a:ext cx="6667560" cy="995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9440" y="4108320"/>
            <a:ext cx="246528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89640" y="4097160"/>
            <a:ext cx="1365120" cy="19692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434960" y="4768920"/>
            <a:ext cx="96048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Overview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is the same for all plat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WDI Client GUI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s how, when to do the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done in local database and exported to server database (client standalone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, can be done directly in server database (client-server mo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execution vari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Setup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XML DTD or sch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trading partner or industr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, created by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 EDI stand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ed from WDI web s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sing WDI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how the data is conver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u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r the m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es when this map is used, additional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onverting between EDI and XML - Runtime 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he PERFORM TRANSFORM com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 file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Adapter (trigger program) on Windows, A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CL on z/OS ba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SO Panel interface on z/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CS transaction on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Q trigger program on z/OS, C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ERFORM TRANSFORM exampl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TRANSFORM 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ILE(XMLFI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FILE(EDIFILE)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AX(X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RFILE(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emo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and transformation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(based on DTD) to E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to XML (based on sche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2640" y="14317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becoming very common method of exchanging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the structure of the XML document to WDI by importing the DTDs or sch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XML document using Data Transformation ma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late the data using PERFORM TRANSFORM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estions ?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319480" y="1927080"/>
            <a:ext cx="4419360" cy="19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 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tz Fahren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bSphere Data Interchang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Follow-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itz Fahrenbac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fritzf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ynn Clark (</a:t>
            </a:r>
            <a:r>
              <a:rPr b="0" lang="en-US" sz="1800" spc="-1" strike="noStrike" u="sng">
                <a:solidFill>
                  <a:srgbClr val="c0c0c0"/>
                </a:solidFill>
                <a:uFillTx/>
                <a:latin typeface="Arial"/>
                <a:hlinkClick r:id="rId2"/>
              </a:rPr>
              <a:t>emd19@us.ibm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 Data Inter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0c0c0"/>
                </a:solidFill>
                <a:uFillTx/>
                <a:latin typeface="Arial"/>
                <a:hlinkClick r:id="rId3"/>
              </a:rPr>
              <a:t>http://www.ibm.com/websphere/datainter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5320" y="2466720"/>
            <a:ext cx="43862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 for attending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05160" y="2511360"/>
            <a:ext cx="42256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een shots from de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855800" y="1776240"/>
          <a:ext cx="5862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5800" y="1776240"/>
                    <a:ext cx="5862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a DTD or schem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112760" y="2320920"/>
          <a:ext cx="7348680" cy="28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2320920"/>
                    <a:ext cx="7348680" cy="28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Defining Sender and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Receiver elemen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297080" y="1776240"/>
          <a:ext cx="69786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7080" y="1776240"/>
                    <a:ext cx="69786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854360" y="1776240"/>
          <a:ext cx="586404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4360" y="1776240"/>
                    <a:ext cx="586404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mporting EDI Standar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677960" y="1776240"/>
          <a:ext cx="62182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7960" y="1776240"/>
                    <a:ext cx="62182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 to XML ma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1811160" y="1776240"/>
          <a:ext cx="595008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1160" y="1776240"/>
                    <a:ext cx="595008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ing a Ru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501920" y="1776240"/>
          <a:ext cx="65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776240"/>
                    <a:ext cx="65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XML basic concepts (XML 1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t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steps to map/translate to or from X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e mapping and translation of an EDI transaction to an XML sch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In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XML-EDI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2387520" y="1776240"/>
          <a:ext cx="4797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7520" y="1776240"/>
                    <a:ext cx="4797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Output (XML-EDI)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EDI Input (EDI-XML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401920" y="1776240"/>
          <a:ext cx="477036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1920" y="1776240"/>
                    <a:ext cx="477036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XML Output</a:t>
            </a:r>
            <a:br>
              <a:rPr sz="2400"/>
            </a:b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(EDI-XML translation)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406600" y="1776240"/>
          <a:ext cx="4761000" cy="390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06600" y="1776240"/>
                    <a:ext cx="4761000" cy="39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is XML ?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is eXtensible 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oming a common way of exchanging data with other parties and 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3C “Recommendatio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ML and related information at: http://www.w3.or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ually a meta-markup lang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es not define semantics or ta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es rules for defining and using tags to structur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define the tag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parison to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a subset of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-20 rule: eliminates some of the more complex but rarely used SGML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is also derived from SG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 has a similar look and fe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- many important differences between XML, 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vs. HTML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087560" y="2058840"/>
          <a:ext cx="7135560" cy="3672000"/>
        </p:xfrm>
        <a:graphic>
          <a:graphicData uri="http://schemas.openxmlformats.org/drawingml/2006/table">
            <a:tbl>
              <a:tblPr/>
              <a:tblGrid>
                <a:gridCol w="3555720"/>
                <a:gridCol w="357984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are defined by a specific  implementa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es the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the structure and mean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define layout and formatting of the dat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case sensitiv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ements and attributes are NOT case sensitiv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l start tags MUST have a corresponding end ta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me tags do not have end tag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gs MUST be nested properl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cessing does not always enforce nesting hierarchy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2307600" y="1330200"/>
            <a:ext cx="91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99600" y="1366920"/>
            <a:ext cx="114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34120" y="1440000"/>
            <a:ext cx="50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22400" y="545760"/>
            <a:ext cx="8339040" cy="513252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6485040" cy="30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1828800"/>
            <a:ext cx="83844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95280" y="2286000"/>
            <a:ext cx="83844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057040" y="213372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1828800"/>
            <a:ext cx="987480" cy="3808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11480" y="1873080"/>
            <a:ext cx="914400" cy="18288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11760" y="1886040"/>
            <a:ext cx="1099800" cy="1746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7080" y="2233440"/>
            <a:ext cx="890640" cy="1857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198160" y="2049480"/>
            <a:ext cx="382680" cy="162000"/>
          </a:xfrm>
          <a:prstGeom prst="line">
            <a:avLst/>
          </a:prstGeom>
          <a:ln w="1584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4864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XML Exampl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043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encoding="iso-8859-1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!DOCTYPE personnel SYSTEM "personal.dt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Big.Boss" 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Boss&lt;/family&gt; &lt;given&gt;Big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chief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subordinates="one.worker two.worker three.worker four.worker five.work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 id="one.worke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&gt;&lt;family&gt;Worker&lt;/family&gt; &lt;given&gt;One&lt;/given&gt;&lt;/nam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mail&gt;one@foo.com&lt;/emai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ink manager="Big.Boss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286000"/>
            <a:ext cx="91440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5486400"/>
            <a:ext cx="990360" cy="3049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5146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16080" y="2292480"/>
            <a:ext cx="1168200" cy="2538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16080" y="5405400"/>
            <a:ext cx="1238040" cy="25416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26880" y="2535120"/>
            <a:ext cx="11160" cy="2846520"/>
          </a:xfrm>
          <a:prstGeom prst="line">
            <a:avLst/>
          </a:prstGeom>
          <a:ln w="158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TD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TD describes the structure of the XML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fi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element (tag) that is permit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ttributes allowed for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ntent model of each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y specify nested elements, either as a sequence or choi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may be parsed character data (#PCD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Fritz F</cp:lastModifiedBy>
  <dcterms:modified xsi:type="dcterms:W3CDTF">2004-08-21T13:41:10Z</dcterms:modified>
  <cp:revision>874</cp:revision>
  <dc:subject/>
  <dc:title>IBM Software Group</dc:title>
</cp:coreProperties>
</file>